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655-DE1A-476F-9EE7-4A00FCEA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4E6-4C47-41AA-ADC0-4DBA705E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CC6-7493-4644-AB97-6972D07C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36A5-E6FE-4358-87CE-B63E6F35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1BC-C209-441E-ADDD-3E8E842E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D29-8D54-4911-ADFC-1E5333C2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D0E-4448-4DF2-A221-194A7DF2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DAB-CF26-430B-8C58-36290CC1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8A64-41F8-4BF9-BE6F-01BC2ABE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CFB-428D-47A5-999D-E44D52A1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0A4-7CFD-43A6-A8B3-70B58850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CB52-29AA-4342-AB5F-13FF07E4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8996-6ECE-4ACE-A0FA-08861B6B6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m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T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littl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4:21:27Z</dcterms:created>
  <dc:creator> </dc:creator>
  <dc:description/>
  <dc:language>en-US</dc:language>
  <cp:lastModifiedBy> </cp:lastModifiedBy>
  <dcterms:modified xsi:type="dcterms:W3CDTF">2007-04-17T14:21:49Z</dcterms:modified>
  <cp:revision>1</cp:revision>
  <dc:subject/>
  <dc:title>mat</dc:title>
</cp:coreProperties>
</file>